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B938-14CB-4914-9BD9-81298E4ED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n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ghett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63381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63381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63381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60195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60195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63381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63381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63381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5334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63381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63381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63381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63381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63381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63381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60195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60195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63381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63381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63381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5334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63381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63381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63381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assific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axonomy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Kingdom Fung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e fungi are classified by having the following characteristics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ukaryot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heterotroph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multicellula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obtain energy from dead, decaying matte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xample organisms: mold, mushrooms, yeas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Kingdom Planta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e plants are classified by having the following characteristics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ssile/immobil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multicellula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ukaryot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autotroph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xample organisms: rose, daisy, palm tre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Kingdom Animal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e animals are classified by having the following characteristics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ukaryot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multicellula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mobil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heterotroph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xample organisms: humans, sponges, fish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249120"/>
            <a:ext cx="937260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uman classific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Humans are classified in the following way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Kingdom-Animalia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Phylum-Chordata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ass-Mammalia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Order-Primat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amily-Homonida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Genus-Homo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pecies-Sapien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atch the common name and scientific na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Killer whal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Hors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Lion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rocodil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Boa constricto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Dolphin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Dog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Grizzly bea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43040" y="15238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Equus caballu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Orcinus orca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Delphinus delphi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Panthera leo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Crocodylus miloticu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Constrictor constricto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Ursus arcto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Felis domesticu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Canis familiaru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nswer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mmon name /scientific na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Hors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Killer whal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Dolphin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Lion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rocodil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Boa constricto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Grizzly bea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Dog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43040" y="15238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Equus caballu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Orcinus orca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Delphinus delphi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Panthera leo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Crocodylus miloticu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Constrictor constricto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Ursus arcto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Felis domesticu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Canis familiaru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y 3 Domain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917640"/>
          <a:ext cx="7696080" cy="5940360"/>
        </p:xfrm>
        <a:graphic>
          <a:graphicData uri="http://schemas.openxmlformats.org/drawingml/2006/table">
            <a:tbl>
              <a:tblPr/>
              <a:tblGrid>
                <a:gridCol w="2211120"/>
                <a:gridCol w="1592280"/>
                <a:gridCol w="2167200"/>
                <a:gridCol w="172548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Eukarya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Archaebacteria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Eubacteria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Nucleu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Membrane bound organelles ex. Mitochondria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Cell wall without peptidogylcan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Cell membranes with unbranched lipid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(some)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Many kinds of RNA polymeras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Introns (Junk DNA)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(some)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Methionine is start amino aci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NOT Killed or inhibited by antibiotic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Kingdom Archaebacteria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e archaebacteria are classified by having the following characteristics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prokaryot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ell wall presen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auto &amp; heterotroph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unicellula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xample organisms-bacteria in sulfur hot springs, deep sea vents, animal intestines, salty lake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Kingdom Eubacter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e eubacteria are classified by having the following characteristics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prokaryot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ell wall presen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auto &amp; heterotroph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unicellula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xample organisms-bacteria in your mouth, in yogurt, E. coli, disease causer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Kingdom Protist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e protists are classified by having the following characteristics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ukaryot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auto &amp; heterotroph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mostly unicellular, some colonia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ey are all eukaryotes that don’t fit in the other kingdom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xample organisms: algae, ameoba, paramecium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25:32Z</dcterms:created>
  <dc:creator>Tricia</dc:creator>
  <dc:description/>
  <cp:keywords/>
  <dc:language>en-US</dc:language>
  <cp:lastModifiedBy>Tricia</cp:lastModifiedBy>
  <dcterms:modified xsi:type="dcterms:W3CDTF">2007-04-26T13:30:04Z</dcterms:modified>
  <cp:revision>1</cp:revision>
  <dc:subject/>
  <dc:title>Class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91033</vt:lpwstr>
  </property>
</Properties>
</file>